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68834"/>
        <c:axId val="61089673"/>
      </c:barChart>
      <c:catAx>
        <c:axId val="30168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89673"/>
        <c:crosses val="autoZero"/>
        <c:auto val="1"/>
        <c:lblAlgn val="ctr"/>
        <c:lblOffset val="100"/>
        <c:noMultiLvlLbl val="0"/>
      </c:catAx>
      <c:valAx>
        <c:axId val="61089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68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85A-9C44-497A-817E-A208D025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56A-8CB9-4536-BE9D-B5923E2D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43B-662C-42D3-AB74-28BC166D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DD6-362D-434E-9F98-1901EED9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06B-4EAB-4A42-9B87-7D1891C5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F20-AC03-47FB-A53C-6E3C1C2D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D50-A1B9-410E-AC5A-7367C97F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3F1-4756-4E23-80B1-D0EC274B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0C7-20B3-4167-8160-91AA799A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DF0-3FA9-4281-B980-681B653B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4F3-87A8-4C62-A1FF-CE407D53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B7B-F1DB-4886-8610-6E20BDDE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A1327-435E-4D87-B3CE-6360054171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