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00261"/>
        <c:axId val="54701110"/>
      </c:barChart>
      <c:catAx>
        <c:axId val="79500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01110"/>
        <c:crosses val="autoZero"/>
        <c:auto val="1"/>
        <c:lblAlgn val="ctr"/>
        <c:lblOffset val="100"/>
        <c:noMultiLvlLbl val="0"/>
      </c:catAx>
      <c:valAx>
        <c:axId val="54701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00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5DB-7AD3-4AA4-AF28-8EAC53F4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B39-753F-45F0-8AB5-F238AF1D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0E2-9532-477C-9797-66054AF5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129-38E6-4F9F-8E79-D92293C0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C84-E8FD-45B1-9C44-CDF1FBC9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E84-D224-4217-AF82-6115C890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8EE-2023-4D99-872F-95C342CC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F28-B3EE-497A-99A5-7E0898E3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48A-03AC-447D-AC0E-E6B9D51E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419-0221-4CE7-A707-043D1FB6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2F8-A4DC-46D5-800B-BF2D2EE7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095-6978-47B9-92F0-31888EED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E184E-7A33-48E4-822E-41737D9315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