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80731"/>
        <c:axId val="70079763"/>
      </c:barChart>
      <c:catAx>
        <c:axId val="40780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79763"/>
        <c:crosses val="autoZero"/>
        <c:auto val="1"/>
        <c:lblAlgn val="ctr"/>
        <c:lblOffset val="100"/>
        <c:noMultiLvlLbl val="0"/>
      </c:catAx>
      <c:valAx>
        <c:axId val="70079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0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E9C-BC21-46D7-AE99-EC9D6259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370-8C91-4F6B-8842-FBBF1C5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02F-1823-4F2D-B095-E39D5DFD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C67-CB7C-4612-AB29-4F27E016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531-6C27-4960-9D3E-5BFFEE2B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6DD-9433-4CBB-A411-EE4A8D7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88C-0862-43A0-A3D7-B64850CE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10C-F0BA-4A13-92E7-EE9A1716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571-46C3-4919-B52B-12A72A1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CC0-F7C3-4C53-A741-1822060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CCD-E2D5-4033-AC45-537BC39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39F-9E44-4F48-B71D-5102DDF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0A319-4277-472C-9483-8B6CDF4D19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