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72243"/>
        <c:axId val="81474837"/>
      </c:barChart>
      <c:catAx>
        <c:axId val="69472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74837"/>
        <c:crosses val="autoZero"/>
        <c:auto val="1"/>
        <c:lblAlgn val="ctr"/>
        <c:lblOffset val="100"/>
        <c:noMultiLvlLbl val="0"/>
      </c:catAx>
      <c:valAx>
        <c:axId val="81474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72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9C1-4535-4888-B377-2A015EE7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62B-233C-4064-BF25-846447CA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9F5-5D6C-4464-A53F-00C5814B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0D3-2250-43B6-8AE1-1D86AB1F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B9D-48AD-4B02-B172-CDF4B602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D4D-C503-41C6-B422-F03FA2A5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D25-4EE1-47C1-BAA5-932AF8FD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33C-FA11-4A4D-896F-6D885F7B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5FA-307C-4958-B744-325832A3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B86-885B-43D1-AC6C-A69A195E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111-6104-4CBE-81E9-34ED94A2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84F-CA4D-4284-BD96-222836D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36642-8594-46D6-8FD0-E8280A390A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